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ED9-9C7C-4BE7-BFCB-6785FCAD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CB4-E480-465C-B4B3-9C7FA03C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0EC-71A1-48C6-A292-EE96A538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F3B-8C3B-4102-B721-0301CB4A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614-B595-4E15-84C0-F181AEE6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A40-7332-469A-A557-0E8E6BA0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175-D820-4958-8954-7F2429B5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73A-3797-4138-A755-D3AF29A6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CEE5-A85C-4726-8DB2-D4F4044A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9FB-5E7A-46B8-B1CD-CE355419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A7A-8397-491E-91C9-879D430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8CB-75FE-4381-AAA6-B646B02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DF92-C533-48B5-865C-6509192453E1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E ELEMEN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PROBLEME DE OPTIMIZ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880" y="2160"/>
            <a:ext cx="75020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Notând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- înălţimea rezervorulu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-  raza suprafeţelor circulare ale baz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- volumul rezervorul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problema constă în a găsi valorile optime </a:t>
            </a:r>
            <a:r>
              <a:rPr b="1" i="1" lang="es-ES_tradnl" sz="2600" spc="-1" strike="noStrike">
                <a:solidFill>
                  <a:srgbClr val="000000"/>
                </a:solidFill>
                <a:latin typeface="Times New Roman"/>
              </a:rPr>
              <a:t>lopt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s-ES_tradnl" sz="2600" spc="-1" strike="noStrike">
                <a:solidFill>
                  <a:srgbClr val="000000"/>
                </a:solidFill>
                <a:latin typeface="Times New Roman"/>
              </a:rPr>
              <a:t>ro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care maximizează funcţ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" y="3728520"/>
            <a:ext cx="37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în prezenţa restricţi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84360" y="4653000"/>
                <a:ext cx="3600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56000" y="5589720"/>
                <a:ext cx="792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627280" y="6237360"/>
                <a:ext cx="720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484360" y="3068640"/>
                <a:ext cx="1727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27280" y="0"/>
                <a:ext cx="28083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627280" y="1916280"/>
                <a:ext cx="576108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r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3573360"/>
                <a:ext cx="3240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427640" y="4941720"/>
                <a:ext cx="201600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4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5816160"/>
            <a:ext cx="599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ci secţiunea transversală este un pătr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35280" y="0"/>
                <a:ext cx="21603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π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6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763640" y="1916280"/>
                <a:ext cx="43927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π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6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851280" y="4581360"/>
                <a:ext cx="23749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GHIUL DE ATAC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J:\Figuri scanate optimizari\scan0013a.png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2649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64000" y="5589720"/>
            <a:ext cx="158436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360" y="-121320"/>
            <a:ext cx="4798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in mecanica clasică a fluidelor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3168720" cy="459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4969080" cy="554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76360" y="2852640"/>
            <a:ext cx="3166920" cy="420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76360" y="3789360"/>
            <a:ext cx="1366920" cy="406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547640" y="4653000"/>
            <a:ext cx="1584360" cy="406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427640" y="4581360"/>
            <a:ext cx="1512720" cy="4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2448000" cy="53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5545080" cy="69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835280" y="4724280"/>
            <a:ext cx="2232000" cy="843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908000" y="3284640"/>
            <a:ext cx="302436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46600" y="2955600"/>
            <a:ext cx="865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OIECTAREA OPTIMĂ A UNEI MAŞINI-UNEL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 AŞCHIERE A METAL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J:\Figuri scanate optimizari\scan0008rotit.png"/>
          <p:cNvPicPr/>
          <p:nvPr/>
        </p:nvPicPr>
        <p:blipFill>
          <a:blip r:embed="rId1"/>
          <a:stretch/>
        </p:blipFill>
        <p:spPr>
          <a:xfrm>
            <a:off x="1835280" y="0"/>
            <a:ext cx="6048360" cy="2746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60" y="2781720"/>
            <a:ext cx="576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 – motor de antren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 – sculă aşchieto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 – piesă de preluc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fv – viteza relativă sculă-pies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 - adâncimea de pătrundere a scu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în metalul pie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5040" y="6120360"/>
            <a:ext cx="77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itul de material tăiat este proporţional cu produsu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f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20" y="-152640"/>
            <a:ext cx="840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 stabileşte un cost de utilizare a maşini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timizarea asigurând minimizarea costului respect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71640" y="1197000"/>
                <a:ext cx="309564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v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2520" y="3777120"/>
            <a:ext cx="814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- este componenta cost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ferentă operatorului uman care lucrează la maşin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în unităţi monetare pe unitatea de ti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- costul sculei, în unităţi mone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durata de viaţă a sculei, în unităţi de ti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00360" y="115920"/>
                <a:ext cx="22320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-7560" y="13960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- factor de proporţional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92360" y="2060640"/>
                <a:ext cx="54007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d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v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vd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d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92360" y="3645000"/>
                <a:ext cx="24480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92360" y="4941720"/>
                <a:ext cx="12240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4941720"/>
                <a:ext cx="1511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d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276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79080" y="525384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şi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2160" y="522864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ons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3960" y="6471720"/>
            <a:ext cx="258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n practică, constanta K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9440" y="6388560"/>
            <a:ext cx="47725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valori sensibil mai mici decât constanta K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17080" y="64810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DUL DE ÎMPREJM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0" y="1340280"/>
            <a:ext cx="881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Se pune problema proiectării unui zid de împrejmuir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grosime şi înălţime constant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care trebuie să includă în interior o suprafaţă dreptunghiular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aturile dreptunghiului reprezentând variabilele care trebuie optimiz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0" y="3356280"/>
            <a:ext cx="8789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Optimizarea are ca obiecti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să asigure o valoare maximă a suprafeţei împrejmuit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în condiţiile unei lungimi date 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a zidulu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ci în condiţiile unor cantităţi date de material pentru construcţ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(având în vedere faptul că grosimea şi înălţimea zidului sunt constante)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0" y="5760000"/>
            <a:ext cx="81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Problema se reduce deci la găsirea dreptunghiului de arie maximă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dintre toate dreptunghiurile de perimetru da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problemă elementară în geometrie.</a:t>
            </a:r>
            <a:r>
              <a:rPr b="1" lang="ro-RO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I:\fig2a.bmp"/>
          <p:cNvPicPr/>
          <p:nvPr/>
        </p:nvPicPr>
        <p:blipFill>
          <a:blip r:embed="rId1"/>
          <a:stretch/>
        </p:blipFill>
        <p:spPr>
          <a:xfrm>
            <a:off x="2124000" y="0"/>
            <a:ext cx="4297320" cy="5013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42920" y="5118120"/>
            <a:ext cx="525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1 &lt; C2 &lt; C3 &lt; C4 &lt; C5 &lt; C6 &lt; C7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4680" y="-2160"/>
            <a:ext cx="703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lorile optime ale parametrilor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or fi cele care asigură un minim al costulu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şi satisfac anumite condi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mpuse de construcţia şi funcţionarea maşinii-unel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6120" y="1842840"/>
            <a:ext cx="57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strucţia maşinii-unel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mite ca viteza de avans a scu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ă fie modificată doar între anumite lim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835280" y="3213000"/>
                <a:ext cx="15127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95640" y="3213000"/>
                <a:ext cx="1440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-4680" y="4046760"/>
            <a:ext cx="704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ceste condiţii – denumite restricţii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duc la separarea unor zone admis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şi a unor zone interzise în planul 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v , 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elimitate de dreptele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în zonele interzise (haşurat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diţiile nu sunt respec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eci nu pot fi luate în considerare pentru optimiza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-10080" y="942480"/>
            <a:ext cx="74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alizarea procesului de aşchiere cere ca scul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ă se rotească într-un anumit se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siderat convenţional ca sens poziti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ci există restricţia ca vitez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să fie pozitivă, respecti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987640" y="3284640"/>
                <a:ext cx="1079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-2160" y="4394160"/>
            <a:ext cx="8107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Această restricţie introduce o delimitare a zonei admisibile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prin intermediul unei drepte </a:t>
            </a:r>
            <a:r>
              <a:rPr b="1" i="1" lang="it-IT" sz="2300" spc="-1" strike="noStrike">
                <a:solidFill>
                  <a:srgbClr val="000000"/>
                </a:solidFill>
                <a:latin typeface="Times New Roman"/>
              </a:rPr>
              <a:t>L3</a:t>
            </a: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 care coincide cu axa absciselor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Times New Roman"/>
              </a:rPr>
              <a:t>zona interzisă (haşurată) fiind situată sub această ax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-19080" y="-14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te două restricţii sunt introduce de puterea limita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re poate fi obţinută de la motorul de acţio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şi de necesitatea de a nu se depăşi efortul maxim admisibil în scu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respectiv o valoare maximă admisibilă a momentului care solicită scul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ntru ca aceasta să nu se deteriore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99"/>
                </a:solidFill>
                <a:latin typeface="Times New Roman"/>
              </a:rPr>
              <a:t>Pmax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- limita superioară a puter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re poate fi obţinută de la motorul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99"/>
                </a:solidFill>
                <a:latin typeface="Times New Roman"/>
              </a:rPr>
              <a:t>Smax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solicitarea maximă admisibilă în scu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zultă restricţi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987640" y="4149720"/>
                <a:ext cx="136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87640" y="5157720"/>
                <a:ext cx="1441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-6480" y="536400"/>
            <a:ext cx="721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n practică rezultă că între putere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şi solicitare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 de o par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şi parametri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pe de altă par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xistă dependenţe care pot fi aproximate prin relaţi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84360" y="2781360"/>
                <a:ext cx="25192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d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0800" y="5087160"/>
            <a:ext cx="63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nde 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sunt factori de proporţional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6840" y="-53280"/>
            <a:ext cx="72748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 urmare, pentru valorile limită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 = P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 = S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zultă aspectul curbelor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din figur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re limitează, de asemenea, zona admisibil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orţiunile haşurate, situate deasupra acestor curb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prezintă zone interzi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întrucât punctele din aceste zone nu satisac restricţi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" y="3040560"/>
            <a:ext cx="7478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lorile optime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it-IT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ale parametrilor maşinii-unel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or fi coordonatele acestui punct – din zona admisibil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re se vor găsi pe o curbă de cost constant mini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întrucât pentru aceste valori op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 rezulta minimul costului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doptat în calitate de criteriu de optimiz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1080" y="840240"/>
            <a:ext cx="755028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oarece pe curbele de cost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aloarea costului este cu atât mai mi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u cât curba este mai sus, din figur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ezult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ă punctual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– de la intersecţia curbelor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 găseşte pe acea curbă de de cost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dintre toate curbele de cost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are traversează zona admisibi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au sunt tangente la această zon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ăreia îi corespunde cel mai mic cost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ci coordonatele punctului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unt valorile optime căutate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le parametrilor maşinii-unelte proiect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720" y="1509480"/>
            <a:ext cx="882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=.05:.01:.3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ot(f,f.^-.35,f,2*f.^-.35,f,3*f.^-.35,f,4*f.^-.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ot(f,f.^-.35,f,2*f.^-.35,f,3*f.^-.35,f,4*f.^-.35,f,f.^-.8,f,2*f.^-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ot(f,f.^-.35,f,2.181*f.^-.35,f,3*f.^-.35,f,4*f.^-.35,f,f.^-.8,f,2*f.^-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tru f=.176777 avem v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2520" y="-4536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tilizând comenzil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0760" y="2635920"/>
            <a:ext cx="81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IECTAREA OPTIMĂ A UNEI GRINZ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400" y="-61560"/>
            <a:ext cx="64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Notând cu 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laturile dreptunghiului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funcţia care trebuie maximizată este aria </a:t>
            </a:r>
            <a:r>
              <a:rPr b="1" i="1" lang="it-IT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, respectiv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419640" y="836640"/>
                <a:ext cx="15840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240" y="1915200"/>
            <a:ext cx="582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în condiţiile perimetrului 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constan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 exemplu egal cu 4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, deci satisfacerea relaţi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492360" y="3195720"/>
                <a:ext cx="38163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492360" y="3933720"/>
                <a:ext cx="25196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440" y="5875920"/>
            <a:ext cx="793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laţia                     constituie o restricţie pentru variabilele 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restricţie de tip egali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42920" y="5877000"/>
                <a:ext cx="1368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34160" y="331560"/>
            <a:ext cx="59216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 presupune că tipul de grindă a fost 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şi urmează să se optimizeze numai dimensiun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Exempl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 pentru o grindă rezemată în dublu 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alizată din tablă sudată, de lungim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şi supusă acţiunii unei sarcini concentrate W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licată la distanţa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de razemul din stâng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timizarea are ca scop găsirea valorilor op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entru dimensiunil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g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le grinz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J:\Figuri scanate optimizari\scan0002a.png"/>
          <p:cNvPicPr/>
          <p:nvPr/>
        </p:nvPicPr>
        <p:blipFill>
          <a:blip r:embed="rId1"/>
          <a:stretch/>
        </p:blipFill>
        <p:spPr>
          <a:xfrm>
            <a:off x="468360" y="3429000"/>
            <a:ext cx="50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J:\Figuri scanate optimizari\scan0002c.png"/>
          <p:cNvPicPr/>
          <p:nvPr/>
        </p:nvPicPr>
        <p:blipFill>
          <a:blip r:embed="rId2"/>
          <a:stretch/>
        </p:blipFill>
        <p:spPr>
          <a:xfrm>
            <a:off x="5867280" y="3429000"/>
            <a:ext cx="29592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27280" y="620640"/>
                <a:ext cx="3960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γ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-6120" y="1438920"/>
            <a:ext cx="75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nde γ este greutatea specifică, iar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este costul în um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9000" y="2097360"/>
            <a:ext cx="789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stricţiile sunt atât de tip egalitate, cât şi de tip ineg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na dintre restricţiile de tip egaliatate poate fi obţinut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 baza ecuaţiei efortului maxim la încovoiere γ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form relaţiilor din rezistenţa materialel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cest efort va avea expr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35280" y="4365720"/>
                <a:ext cx="561636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6840" y="-45360"/>
            <a:ext cx="50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ci rezultă restricţia de tip egal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332000" y="907920"/>
                <a:ext cx="6192720" cy="227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-5040" y="4218480"/>
            <a:ext cx="78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în membrul stâng al egalităţii intervenind funcţ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Ψ1(h, b, g1, g2, σ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pendentă de dimensiunile care urmează să fie optimi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1480" y="2201760"/>
            <a:ext cx="741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alog, determinând efortul maxim la forfecare τmax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 obţine o restricţie de tip egaliate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Ψ2(h, b, g1, g2, σ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terminând efortul în zona sudurii şi săgeata maxim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 oţin alte restricţii de tip eg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-3960" y="289440"/>
            <a:ext cx="646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stricţiile de tip ineg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zultă din limitarea eforturilor max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la valorile care asigură funcţionarea grinz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ără pericol de rup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au de intrare a materialului în zona de curg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otând cu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efortul de curgere al material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şi cu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coeficientul de siguranţă neces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fortul σ  trebuie să satisfacă o relaţie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419640" y="4941720"/>
                <a:ext cx="201600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18000" y="455760"/>
            <a:ext cx="8041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eori, secţiunea grinzii NU este menţinută constantă pe toată lungim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xempl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 grinda în consolă cu secţiune dreptunghiular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pusă acţiunii unei sarcini statice uniform distrib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oiectarea optimă are ca obiectiv determinarea acelei forme a grinz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re asigură o cantitate minimă de materi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u respectarea restricţi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zultate din condiţia de a nu depăşi solicitarea admisibi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şi din condiţia ca frecvenţa natur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ă fie superioară unei limite inferioare imp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J:\Figuri scanate optimizari\scan0009a.png"/>
          <p:cNvPicPr/>
          <p:nvPr/>
        </p:nvPicPr>
        <p:blipFill>
          <a:blip r:embed="rId1"/>
          <a:stretch/>
        </p:blipFill>
        <p:spPr>
          <a:xfrm>
            <a:off x="2195640" y="4076640"/>
            <a:ext cx="42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00" y="-91440"/>
            <a:ext cx="541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Intervin şi restricţii de tip inegalitat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întrucât laturile 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şi 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trebuie să fie pozitiv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deci trebuie respectate şi condiţiile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935280" cy="52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865080" cy="488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340000" y="1916280"/>
                <a:ext cx="15825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68360" y="2565360"/>
                <a:ext cx="20894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340000" y="3500280"/>
            <a:ext cx="2808360" cy="716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651640" y="3429000"/>
                <a:ext cx="158436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340000" y="4508640"/>
            <a:ext cx="1944720" cy="68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95640" y="5373720"/>
                <a:ext cx="5832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C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68360" y="6093000"/>
                <a:ext cx="3024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0" y="0"/>
            <a:ext cx="798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zultând soluţia cunoscut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intre toate dreptunghiurile de perimetru consta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ria maximă o are pătratul cu perimetrul d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area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fmax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a acestei arii fi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40000" y="5013360"/>
            <a:ext cx="2952720" cy="87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4320" y="2032560"/>
            <a:ext cx="8113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Condiţia ca zidul să aibă foma unui dreptungh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constitui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şi ea to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o restricţ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acă această condiţie nu ar fi impus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şi zidul de împrejmuire ar putea avea o formă circulară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cu lungimea cercului egală cu perimetrul p = 4C din (2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atunci se obţine o suprafaţă împrejmuită mai mar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întrucât rezultă raza r a cerculu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80" y="472320"/>
            <a:ext cx="79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şi suprafaţa circulară împrejmuită Sc are valoare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3960720" cy="94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20" y="2631240"/>
            <a:ext cx="23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 constată c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195640" y="3500280"/>
                <a:ext cx="1655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2160" y="4640040"/>
            <a:ext cx="724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împrejmuire circulară ar fi mai avantajoas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ât una pătrat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n punct de vedere al suprafeţei obţinute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2880" y="-50400"/>
            <a:ext cx="829296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 cazul tridimensional, respectiv la volumul maxim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re poate fi obţinut pentru un paralelipiped dreptungh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 suprafaţă totală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dată, se va constata că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în cazul dimensiunilor optim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aralelipipedul devine un cu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acă se notează laturile cu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blema constă în determinarea valo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re maximizează volumul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43280" y="5084640"/>
                <a:ext cx="1655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" y="3747960"/>
            <a:ext cx="788616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 o cale analogă la cazul bidimension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acă nu se impune restricţia ca forma rezervorul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ă fie un paralelipiped dreptunghic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u aceeaşi suprafaţă de tablă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 poate obţine un volum i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ai mare decât în cazul cubulu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acă se adoptă forma sferică pentru rezervo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763640" y="836640"/>
                <a:ext cx="3456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720720" cy="406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43280" y="1700280"/>
            <a:ext cx="647640" cy="365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851280" y="1628640"/>
            <a:ext cx="720720" cy="41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763640" y="2205000"/>
                <a:ext cx="3313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REZERVOR CILINDRIC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60" y="1880280"/>
            <a:ext cx="7929000" cy="33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Se pune problema găsirii dimensiunilor op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(care asigură un volum maxi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pentru un rezervor cilindric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în condiţiile respectării unei suprafeţe totale impuse </a:t>
            </a:r>
            <a:r>
              <a:rPr b="1" i="1" lang="it-IT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it-IT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suprafaţa totală </a:t>
            </a:r>
            <a:r>
              <a:rPr b="1" i="1" lang="it-IT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 fiind format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din suprafaţa lateral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plus suprafeţele circulare ale baz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(inferioară şi superioar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09:10:03Z</dcterms:created>
  <dc:creator>Universitatea</dc:creator>
  <dc:description/>
  <dc:language>en-US</dc:language>
  <cp:lastModifiedBy>Dan</cp:lastModifiedBy>
  <dcterms:modified xsi:type="dcterms:W3CDTF">2009-04-02T04:12:01Z</dcterms:modified>
  <cp:revision>23</cp:revision>
  <dc:subject/>
  <dc:title>EXEMPLE</dc:title>
</cp:coreProperties>
</file>